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A675-A7DD-4FF7-981B-D3CD1534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434-90CD-4671-812A-924F0FA91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5B52-5D54-4721-86DE-61A4DA35D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2389-4DBA-442A-B59E-4A707333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E91A-579D-4EFD-93A5-46EE6E14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8F81-7536-4957-81AA-88805047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183B-B423-4834-95F2-3C8A75D6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8AC-40C6-469F-939C-7157BC25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2282-B577-44B5-ABEB-47DB7BA0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CFED-BEE3-4C72-AC00-615986CFB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B9D-26B9-4931-9D4D-66F0C907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A83E-5D75-4112-8BD0-67E67076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FC1B-E9FA-4027-80ED-DD8DA3CC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30A-8F2B-4BA8-A2A4-14DBFA39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F62-23EC-4F1D-B12B-1044DC02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59D-3C08-4662-BCAD-4CC927FAD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C64-BB47-4ED5-A58C-1F48732A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2015-5212-4828-818C-D87279F4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8EC7-6538-431A-BF6D-9BD5FBBA7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2F1-A447-4359-8960-2C78CA5A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5E6-2C46-45B9-AD04-965C4BC1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D58-F07C-4064-BC8C-151EC3F8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07D5-5C95-4952-A354-490B8285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40D-D0D8-4EEA-8A80-6C7C93C1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2C9-3F8C-4925-B481-EC03E16C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EC2-B778-4A96-BAD0-29D0FE61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AB0-EFFA-4934-AA18-6B762B11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A58-F78A-4F5B-99FB-56C03CBC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E24-5968-4550-B0C1-DB961D64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99D-CA7B-4089-BF47-CED94B5F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2C8-4776-4384-9D65-3EB41137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290-38B3-47B7-B2B2-5730E2C8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0E1-010C-4FB6-A119-E13A9B3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138-75B6-4D2B-A961-C4AB5CF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5AC-64CE-41A6-B262-8217EFB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177-375B-4EDF-94E9-840C71E7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248-8400-41AE-8ECD-C12EC83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EC8-4A10-41B1-98D0-7ECED4930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rocess+flowchar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057400" y="3505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 bad system will beat a good person every tim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61016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s to 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pping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6560" y="586728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These symbols are typical, but others may be used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459800" y="1793880"/>
            <a:ext cx="6115320" cy="3821760"/>
            <a:chOff x="1459800" y="1793880"/>
            <a:chExt cx="6115320" cy="3821760"/>
          </a:xfrm>
        </p:grpSpPr>
        <p:sp>
          <p:nvSpPr>
            <p:cNvPr id="94" name="Rectangle 6"/>
            <p:cNvSpPr/>
            <p:nvPr/>
          </p:nvSpPr>
          <p:spPr>
            <a:xfrm>
              <a:off x="1459800" y="1816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647440" y="18162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2648520" y="227664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645640" y="277668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643120" y="323676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2651400" y="373680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657520" y="427680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651040" y="477360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48640" y="531036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1878120" y="5332320"/>
              <a:ext cx="1074600" cy="2602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Isosceles Triangle 1"/>
          <p:cNvSpPr/>
          <p:nvPr/>
        </p:nvSpPr>
        <p:spPr>
          <a:xfrm>
            <a:off x="1827360" y="4159080"/>
            <a:ext cx="533160" cy="49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20" name="Rectangle 6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361520" y="218952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"/>
          <p:cNvGrpSpPr/>
          <p:nvPr/>
        </p:nvGrpSpPr>
        <p:grpSpPr>
          <a:xfrm>
            <a:off x="845640" y="4135320"/>
            <a:ext cx="6174720" cy="1554120"/>
            <a:chOff x="845640" y="4135320"/>
            <a:chExt cx="6174720" cy="1554120"/>
          </a:xfrm>
        </p:grpSpPr>
        <p:sp>
          <p:nvSpPr>
            <p:cNvPr id="143" name="AutoShape 57"/>
            <p:cNvSpPr/>
            <p:nvPr/>
          </p:nvSpPr>
          <p:spPr>
            <a:xfrm>
              <a:off x="914040" y="480060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8"/>
            <p:cNvSpPr/>
            <p:nvPr/>
          </p:nvSpPr>
          <p:spPr>
            <a:xfrm>
              <a:off x="129528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205704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29718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38862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3"/>
            <p:cNvSpPr/>
            <p:nvPr/>
          </p:nvSpPr>
          <p:spPr>
            <a:xfrm>
              <a:off x="487692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4"/>
            <p:cNvSpPr/>
            <p:nvPr/>
          </p:nvSpPr>
          <p:spPr>
            <a:xfrm>
              <a:off x="2133360" y="419076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22860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25146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4290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434340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>
              <a:off x="53341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0"/>
            <p:cNvSpPr/>
            <p:nvPr/>
          </p:nvSpPr>
          <p:spPr>
            <a:xfrm>
              <a:off x="5639040" y="480060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1"/>
            <p:cNvSpPr/>
            <p:nvPr/>
          </p:nvSpPr>
          <p:spPr>
            <a:xfrm>
              <a:off x="845640" y="4135320"/>
              <a:ext cx="6174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Inspect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762120" y="41911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533520" y="106668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16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0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64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Curved Connector 15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Curved Connector 71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dded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rect value to the product or services as seen or experienc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value added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, should be elim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cess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value added steps: waste, but difficult to eliminate (e.g., some kinds of planning, schedul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78" name="Rectangle 4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361160" y="2189520"/>
              <a:ext cx="43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45"/>
          <p:cNvSpPr/>
          <p:nvPr/>
        </p:nvSpPr>
        <p:spPr>
          <a:xfrm>
            <a:off x="457200" y="106668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5094360" y="34686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d-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495680" y="3505320"/>
            <a:ext cx="6098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"/>
          <p:cNvSpPr/>
          <p:nvPr/>
        </p:nvSpPr>
        <p:spPr>
          <a:xfrm>
            <a:off x="914400" y="480060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295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20574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29718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38862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87692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4"/>
          <p:cNvSpPr/>
          <p:nvPr/>
        </p:nvSpPr>
        <p:spPr>
          <a:xfrm>
            <a:off x="2133720" y="419112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2286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25146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>
            <a:off x="34290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"/>
          <p:cNvSpPr/>
          <p:nvPr/>
        </p:nvSpPr>
        <p:spPr>
          <a:xfrm>
            <a:off x="43434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563868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845640" y="4135320"/>
            <a:ext cx="617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tc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   Make    Prepare   Assemble    Bake   Inspect   De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gh  Crust       Pizza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1"/>
          <p:cNvSpPr/>
          <p:nvPr/>
        </p:nvSpPr>
        <p:spPr>
          <a:xfrm>
            <a:off x="700200" y="416736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22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72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mond 73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5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6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Straight Arrow Connector 77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Curved Connector 78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Curved Connector 79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: Luigi’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590920" y="2743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2590920" y="45720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00920" y="654120"/>
            <a:ext cx="2154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depa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895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895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8954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2590920" y="58672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 flipH="1">
            <a:off x="31237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024080" y="44038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5410080" y="5867280"/>
            <a:ext cx="6098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6080760" y="585144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267080" y="914400"/>
            <a:ext cx="4564440" cy="2065320"/>
            <a:chOff x="4267080" y="914400"/>
            <a:chExt cx="4564440" cy="2065320"/>
          </a:xfrm>
        </p:grpSpPr>
        <p:sp>
          <p:nvSpPr>
            <p:cNvPr id="251" name="Rectangle 62"/>
            <p:cNvSpPr/>
            <p:nvPr/>
          </p:nvSpPr>
          <p:spPr>
            <a:xfrm>
              <a:off x="4267080" y="925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902480" y="9259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4899960" y="1164960"/>
              <a:ext cx="236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4898880" y="1423440"/>
              <a:ext cx="393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4901040" y="1663560"/>
              <a:ext cx="34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899600" y="192096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4906800" y="22014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4900320" y="24588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5218560" y="273600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5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6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7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8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3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4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5"/>
            <p:cNvSpPr/>
            <p:nvPr/>
          </p:nvSpPr>
          <p:spPr>
            <a:xfrm>
              <a:off x="4489560" y="2747520"/>
              <a:ext cx="572400" cy="1346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53" descr=""/>
          <p:cNvPicPr/>
          <p:nvPr/>
        </p:nvPicPr>
        <p:blipFill>
          <a:blip r:embed="rId1"/>
          <a:stretch/>
        </p:blipFill>
        <p:spPr>
          <a:xfrm>
            <a:off x="2703600" y="143676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3" descr=""/>
          <p:cNvPicPr/>
          <p:nvPr/>
        </p:nvPicPr>
        <p:blipFill>
          <a:blip r:embed="rId2"/>
          <a:stretch/>
        </p:blipFill>
        <p:spPr>
          <a:xfrm>
            <a:off x="2673360" y="350532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3" descr=""/>
          <p:cNvPicPr/>
          <p:nvPr/>
        </p:nvPicPr>
        <p:blipFill>
          <a:blip r:embed="rId3"/>
          <a:stretch/>
        </p:blipFill>
        <p:spPr>
          <a:xfrm>
            <a:off x="4448160" y="2131920"/>
            <a:ext cx="3142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, Expanded    Possible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259092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590920" y="281952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2590920" y="50292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2590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4"/>
          <p:cNvSpPr/>
          <p:nvPr/>
        </p:nvSpPr>
        <p:spPr>
          <a:xfrm>
            <a:off x="2590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698760" y="654120"/>
            <a:ext cx="2064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corre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atis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>
            <a:off x="2895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28954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9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895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>
            <a:off x="3200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>
            <a:off x="32004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32004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6"/>
          <p:cNvSpPr/>
          <p:nvPr/>
        </p:nvSpPr>
        <p:spPr>
          <a:xfrm>
            <a:off x="44956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88620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3733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3733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1"/>
          <p:cNvSpPr/>
          <p:nvPr/>
        </p:nvSpPr>
        <p:spPr>
          <a:xfrm>
            <a:off x="43434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2"/>
          <p:cNvSpPr/>
          <p:nvPr/>
        </p:nvSpPr>
        <p:spPr>
          <a:xfrm>
            <a:off x="434340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3264480" y="1736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4"/>
          <p:cNvSpPr/>
          <p:nvPr/>
        </p:nvSpPr>
        <p:spPr>
          <a:xfrm>
            <a:off x="3204360" y="3833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5"/>
          <p:cNvSpPr/>
          <p:nvPr/>
        </p:nvSpPr>
        <p:spPr>
          <a:xfrm>
            <a:off x="3132720" y="543384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new or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28954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8"/>
          <p:cNvSpPr/>
          <p:nvPr/>
        </p:nvSpPr>
        <p:spPr>
          <a:xfrm>
            <a:off x="5181480" y="579132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9"/>
          <p:cNvSpPr/>
          <p:nvPr/>
        </p:nvSpPr>
        <p:spPr>
          <a:xfrm>
            <a:off x="5181480" y="4267080"/>
            <a:ext cx="609840" cy="381240"/>
          </a:xfrm>
          <a:prstGeom prst="parallelogram">
            <a:avLst>
              <a:gd name="adj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0"/>
          <p:cNvSpPr/>
          <p:nvPr/>
        </p:nvSpPr>
        <p:spPr>
          <a:xfrm>
            <a:off x="5334120" y="20574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6006960" y="20415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5870160" y="41911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5870160" y="5791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40384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7"/>
          <p:cNvSpPr/>
          <p:nvPr/>
        </p:nvSpPr>
        <p:spPr>
          <a:xfrm flipH="1">
            <a:off x="3200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8"/>
          <p:cNvSpPr/>
          <p:nvPr/>
        </p:nvSpPr>
        <p:spPr>
          <a:xfrm flipH="1">
            <a:off x="28951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0"/>
          <p:cNvSpPr/>
          <p:nvPr/>
        </p:nvSpPr>
        <p:spPr>
          <a:xfrm flipH="1">
            <a:off x="3123720" y="37339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4176360" y="2575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3658680" y="617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7543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0"/>
          <p:cNvSpPr/>
          <p:nvPr/>
        </p:nvSpPr>
        <p:spPr>
          <a:xfrm>
            <a:off x="4038480" y="6477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2590920" y="63244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2"/>
          <p:cNvSpPr/>
          <p:nvPr/>
        </p:nvSpPr>
        <p:spPr>
          <a:xfrm flipH="1">
            <a:off x="31237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3966120" y="4952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4"/>
          <p:cNvSpPr/>
          <p:nvPr/>
        </p:nvSpPr>
        <p:spPr>
          <a:xfrm>
            <a:off x="762120" y="1752480"/>
            <a:ext cx="7772400" cy="990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5"/>
          <p:cNvSpPr/>
          <p:nvPr/>
        </p:nvSpPr>
        <p:spPr>
          <a:xfrm>
            <a:off x="990720" y="388620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6"/>
          <p:cNvSpPr/>
          <p:nvPr/>
        </p:nvSpPr>
        <p:spPr>
          <a:xfrm>
            <a:off x="990720" y="533412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3" descr=""/>
          <p:cNvPicPr/>
          <p:nvPr/>
        </p:nvPicPr>
        <p:blipFill>
          <a:blip r:embed="rId1"/>
          <a:stretch/>
        </p:blipFill>
        <p:spPr>
          <a:xfrm>
            <a:off x="2703600" y="138420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3" descr=""/>
          <p:cNvPicPr/>
          <p:nvPr/>
        </p:nvPicPr>
        <p:blipFill>
          <a:blip r:embed="rId2"/>
          <a:stretch/>
        </p:blipFill>
        <p:spPr>
          <a:xfrm>
            <a:off x="2670120" y="345924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at Luigi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 from phone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illing process in kitchen (food preparation and coo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urant/kitchen/restroom cleanl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/materials or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hiring/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Text Box 11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7162920" y="1295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5410080" y="388620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099760" y="5818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Order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ck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tim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for steps, start to fi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20 + 60 + 60 + 5 + 20 + 2 + 120 = 387 m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nge: 107- 682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: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: 2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lue added time = 25/387 = 0.0646 = 6.5% 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3.5% of throughput time is non-value added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was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orders,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, 0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gets even worse if item is not in sto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619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quence of tasks or activities to achieve a specific outcome; the way by which something is accomplished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in value-added activities.  Making a piz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essary, but non-value adde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 a customer, ordering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roving other processes and  outco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menu, training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91920" y="2133720"/>
            <a:ext cx="5478480" cy="1554120"/>
            <a:chOff x="691920" y="2133720"/>
            <a:chExt cx="5478480" cy="1554120"/>
          </a:xfrm>
        </p:grpSpPr>
        <p:sp>
          <p:nvSpPr>
            <p:cNvPr id="54" name="AutoShape 6"/>
            <p:cNvSpPr/>
            <p:nvPr/>
          </p:nvSpPr>
          <p:spPr>
            <a:xfrm>
              <a:off x="763920" y="281952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1155600" y="297180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93932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87964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8199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48387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2017800" y="221004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21744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40948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334980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0120" y="297180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5308920" y="2971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622120" y="2819520"/>
              <a:ext cx="548280" cy="304920"/>
            </a:xfrm>
            <a:prstGeom prst="rightArrow">
              <a:avLst>
                <a:gd name="adj1" fmla="val 50000"/>
                <a:gd name="adj2" fmla="val 4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91920" y="2133720"/>
              <a:ext cx="5349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0"/>
          <p:cNvSpPr/>
          <p:nvPr/>
        </p:nvSpPr>
        <p:spPr>
          <a:xfrm>
            <a:off x="611280" y="1679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p or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at is the maximum number of orders that can be processed per 8-hour da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 workers, each must wait for previous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Oval 4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60680" y="2398680"/>
            <a:ext cx="550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362320" y="312408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   2 minutes    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0" y="4800600"/>
            <a:ext cx="6705720" cy="204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bottleneck is worker 1: 2 hours, 5 minutes = 125 min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maximu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oughput rate (125 min/or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me avail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rs x 60 min/h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3.84 order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neck             125 min/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labor efficiency?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893040" y="114300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51120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23688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295280" y="1203480"/>
          <a:ext cx="70866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03480"/>
                    <a:ext cx="7086600" cy="390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7" name="Oval 5"/>
          <p:cNvSpPr/>
          <p:nvPr/>
        </p:nvSpPr>
        <p:spPr>
          <a:xfrm>
            <a:off x="1857240" y="2478240"/>
            <a:ext cx="420840" cy="363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6926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333520" y="2203560"/>
            <a:ext cx="5207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611520" y="2841480"/>
            <a:ext cx="374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419720" y="1386000"/>
            <a:ext cx="368136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505480" y="3265560"/>
            <a:ext cx="98280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979720" y="3265560"/>
            <a:ext cx="238428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049560" y="3024360"/>
            <a:ext cx="1333440" cy="1212840"/>
          </a:xfrm>
          <a:prstGeom prst="leftArrow">
            <a:avLst>
              <a:gd name="adj1" fmla="val 50000"/>
              <a:gd name="adj2" fmla="val 47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121200" y="33876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 rot="10800000">
            <a:off x="4522680" y="1142640"/>
            <a:ext cx="1192320" cy="12128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592880" y="1506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7048440" y="1263600"/>
            <a:ext cx="1052640" cy="91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5505480" y="3144960"/>
            <a:ext cx="10526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3049560" y="3144960"/>
            <a:ext cx="23144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279160" y="25383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orker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4522680" y="1325520"/>
            <a:ext cx="1052640" cy="90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0" y="4114800"/>
            <a:ext cx="655308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three workers only processed or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ctual work time/or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65 + 45 + 22 min    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352 = 35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Of the total labor time available to process each order, only 35% of the time the workers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king on ord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e remaining time they are “idle” or doing something e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value-added labor e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7772400" y="22096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8" name="Oval 4"/>
          <p:cNvSpPr/>
          <p:nvPr/>
        </p:nvSpPr>
        <p:spPr>
          <a:xfrm>
            <a:off x="1066680" y="2743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60680" y="2398680"/>
            <a:ext cx="557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048120" y="3200400"/>
            <a:ext cx="40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52280" y="4800600"/>
            <a:ext cx="79250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added labor efficiency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e added time/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5 + 45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33 = 1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3.3% of the time available to process orders is value-adde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781680" y="121932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5105520" y="3581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603080" y="27432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lue-added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defin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icate the process and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the same way (output is con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ro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579600"/>
            <a:ext cx="725472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lowchart for a process you are familiar with (preferab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 Use the following symb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r finish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o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a process with 15-20 symbols (i.e., avoid a process that is too simple or too compl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laces in the process that are obviously wasteful and c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use Powerpoint and send to instructor befor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38862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819520" y="21337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2743200" y="2666880"/>
            <a:ext cx="45720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3276720"/>
            <a:ext cx="457200" cy="4572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redit Request Approval Proces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low chart is pretty goo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35240" y="16128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400480" y="1638360"/>
            <a:ext cx="87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company and study F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429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9625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4089240" y="16128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 CFO or Treasurer with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5105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9343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368960" y="5410080"/>
            <a:ext cx="609480" cy="609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486400" y="14097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7086600" y="1600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request memo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934320" y="25146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7086600" y="2514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memo  to manager for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74674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5715000" y="160020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7607160" y="3530520"/>
            <a:ext cx="10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anager to read and give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93432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701028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 memo for manager’s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6286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71500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5981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6019920" y="5029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219640" y="4749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H="1">
            <a:off x="50288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23224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pproval subject to any limit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86400" y="54864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5511960" y="5486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BCRG committee for limit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7162920" y="3454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487656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4013280" y="603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eeting to be 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200400" y="5410080"/>
            <a:ext cx="533520" cy="6098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9"/>
          <p:cNvSpPr/>
          <p:nvPr/>
        </p:nvSpPr>
        <p:spPr>
          <a:xfrm flipH="1">
            <a:off x="38098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19520" y="52578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 by Committe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4545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3416400" y="6019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2908440" y="6362640"/>
            <a:ext cx="11430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30481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2666880" y="5715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380988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388620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Credit Chair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 flipH="1">
            <a:off x="31240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9"/>
          <p:cNvSpPr/>
          <p:nvPr/>
        </p:nvSpPr>
        <p:spPr>
          <a:xfrm>
            <a:off x="2590920" y="4381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2362320" y="419112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1"/>
          <p:cNvSpPr/>
          <p:nvPr/>
        </p:nvSpPr>
        <p:spPr>
          <a:xfrm>
            <a:off x="156204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2"/>
          <p:cNvSpPr/>
          <p:nvPr/>
        </p:nvSpPr>
        <p:spPr>
          <a:xfrm flipH="1">
            <a:off x="2158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1523880" y="4191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 flipH="1">
            <a:off x="23623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5"/>
          <p:cNvSpPr/>
          <p:nvPr/>
        </p:nvSpPr>
        <p:spPr>
          <a:xfrm flipV="1"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6"/>
          <p:cNvSpPr/>
          <p:nvPr/>
        </p:nvSpPr>
        <p:spPr>
          <a:xfrm>
            <a:off x="2362320" y="519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7"/>
          <p:cNvSpPr/>
          <p:nvPr/>
        </p:nvSpPr>
        <p:spPr>
          <a:xfrm flipV="1">
            <a:off x="41911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8"/>
          <p:cNvSpPr/>
          <p:nvPr/>
        </p:nvSpPr>
        <p:spPr>
          <a:xfrm>
            <a:off x="1752480" y="5181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9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0"/>
          <p:cNvSpPr/>
          <p:nvPr/>
        </p:nvSpPr>
        <p:spPr>
          <a:xfrm>
            <a:off x="1828800" y="648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1"/>
          <p:cNvSpPr/>
          <p:nvPr/>
        </p:nvSpPr>
        <p:spPr>
          <a:xfrm flipH="1">
            <a:off x="1294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4"/>
          <p:cNvSpPr/>
          <p:nvPr/>
        </p:nvSpPr>
        <p:spPr>
          <a:xfrm>
            <a:off x="12952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"/>
          <p:cNvSpPr/>
          <p:nvPr/>
        </p:nvSpPr>
        <p:spPr>
          <a:xfrm>
            <a:off x="2362320" y="2133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8"/>
          <p:cNvSpPr/>
          <p:nvPr/>
        </p:nvSpPr>
        <p:spPr>
          <a:xfrm>
            <a:off x="5562720" y="2286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9"/>
          <p:cNvSpPr/>
          <p:nvPr/>
        </p:nvSpPr>
        <p:spPr>
          <a:xfrm>
            <a:off x="807732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–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63244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1"/>
          <p:cNvSpPr/>
          <p:nvPr/>
        </p:nvSpPr>
        <p:spPr>
          <a:xfrm>
            <a:off x="70866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2"/>
          <p:cNvSpPr/>
          <p:nvPr/>
        </p:nvSpPr>
        <p:spPr>
          <a:xfrm>
            <a:off x="4343400" y="6400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 – 2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3"/>
          <p:cNvSpPr/>
          <p:nvPr/>
        </p:nvSpPr>
        <p:spPr>
          <a:xfrm>
            <a:off x="2362320" y="3962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4"/>
          <p:cNvSpPr/>
          <p:nvPr/>
        </p:nvSpPr>
        <p:spPr>
          <a:xfrm>
            <a:off x="152280" y="228600"/>
            <a:ext cx="129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ci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ssic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k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rew 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rsini-Christina 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5"/>
          <p:cNvSpPr/>
          <p:nvPr/>
        </p:nvSpPr>
        <p:spPr>
          <a:xfrm>
            <a:off x="228600" y="160020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request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onship 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6"/>
          <p:cNvSpPr/>
          <p:nvPr/>
        </p:nvSpPr>
        <p:spPr>
          <a:xfrm>
            <a:off x="152280" y="44956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 Client Contr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7"/>
          <p:cNvSpPr/>
          <p:nvPr/>
        </p:nvSpPr>
        <p:spPr>
          <a:xfrm>
            <a:off x="7924680" y="1066680"/>
            <a:ext cx="1219320" cy="381240"/>
          </a:xfrm>
          <a:prstGeom prst="cloudCallout">
            <a:avLst>
              <a:gd name="adj1" fmla="val -38412"/>
              <a:gd name="adj2" fmla="val 1341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en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8"/>
          <p:cNvSpPr/>
          <p:nvPr/>
        </p:nvSpPr>
        <p:spPr>
          <a:xfrm>
            <a:off x="4648320" y="2438280"/>
            <a:ext cx="1218960" cy="381240"/>
          </a:xfrm>
          <a:prstGeom prst="cloudCallout">
            <a:avLst>
              <a:gd name="adj1" fmla="val 51041"/>
              <a:gd name="adj2" fmla="val -1479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9"/>
          <p:cNvSpPr/>
          <p:nvPr/>
        </p:nvSpPr>
        <p:spPr>
          <a:xfrm>
            <a:off x="2895480" y="3809880"/>
            <a:ext cx="1219320" cy="381240"/>
          </a:xfrm>
          <a:prstGeom prst="cloudCallout">
            <a:avLst>
              <a:gd name="adj1" fmla="val -46486"/>
              <a:gd name="adj2" fmla="val 15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0"/>
          <p:cNvSpPr/>
          <p:nvPr/>
        </p:nvSpPr>
        <p:spPr>
          <a:xfrm>
            <a:off x="4038480" y="4952880"/>
            <a:ext cx="1219320" cy="381240"/>
          </a:xfrm>
          <a:prstGeom prst="cloudCallout">
            <a:avLst>
              <a:gd name="adj1" fmla="val -1824"/>
              <a:gd name="adj2" fmla="val 145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1"/>
          <p:cNvSpPr/>
          <p:nvPr/>
        </p:nvSpPr>
        <p:spPr>
          <a:xfrm>
            <a:off x="6172200" y="3200400"/>
            <a:ext cx="1219320" cy="380880"/>
          </a:xfrm>
          <a:prstGeom prst="cloudCallout">
            <a:avLst>
              <a:gd name="adj1" fmla="val 48828"/>
              <a:gd name="adj2" fmla="val 10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c8c93"/>
                </a:solidFill>
                <a:latin typeface="Arial"/>
              </a:rPr>
              <a:t>Value Stream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3600" y="6626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6629400" y="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638680" y="990720"/>
            <a:ext cx="3483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cha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adequ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h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ryth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ll the places where the patient ha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point out places that are wasteful of opportunities for 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have a tit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324480" y="0"/>
            <a:ext cx="2667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cesses: Wh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cesses are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he best processes possible (provide exactly what is desired—voice of the customer—with minimal “waste”—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roces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a little differently.  Output is in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identify sources of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cannot improve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chedu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plicate the process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7880" y="4800600"/>
            <a:ext cx="64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google.com/images?hl=en&amp;q=process+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low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edical_full"/>
          <p:cNvPicPr/>
          <p:nvPr/>
        </p:nvPicPr>
        <p:blipFill>
          <a:blip r:embed="rId1"/>
          <a:stretch/>
        </p:blipFill>
        <p:spPr>
          <a:xfrm>
            <a:off x="0" y="6732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95480" y="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ire_full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2209680" y="0"/>
            <a:ext cx="495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Hiring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Proc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Mapping or Flow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al point or output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 proces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rd tasks and the sequence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map or flow ch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95880" y="457200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066680"/>
              <a:gd name="textAreaBottom" fmla="*/ 10332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566040" y="4800600"/>
            <a:ext cx="2349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 are done 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 Mapping Worksh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rocessMap"/>
          <p:cNvPicPr/>
          <p:nvPr/>
        </p:nvPicPr>
        <p:blipFill>
          <a:blip r:embed="rId1"/>
          <a:stretch/>
        </p:blipFill>
        <p:spPr>
          <a:xfrm>
            <a:off x="4952880" y="1295280"/>
            <a:ext cx="2778120" cy="314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800600" y="1219320"/>
            <a:ext cx="3124080" cy="32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V="1">
            <a:off x="2514600" y="3123360"/>
            <a:ext cx="22867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Oval 9"/>
          <p:cNvSpPr/>
          <p:nvPr/>
        </p:nvSpPr>
        <p:spPr>
          <a:xfrm>
            <a:off x="5562720" y="2209680"/>
            <a:ext cx="9903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952880" y="304812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Process Map—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0521_IMG"/>
          <p:cNvPicPr/>
          <p:nvPr/>
        </p:nvPicPr>
        <p:blipFill>
          <a:blip r:embed="rId1"/>
          <a:stretch/>
        </p:blipFill>
        <p:spPr>
          <a:xfrm>
            <a:off x="1981080" y="167652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Process Map using Post-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05-0520_IMG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06:29Z</dcterms:created>
  <dc:creator>Information Services</dc:creator>
  <dc:description/>
  <dc:language>en-US</dc:language>
  <cp:lastModifiedBy>John M Nicholas</cp:lastModifiedBy>
  <dcterms:modified xsi:type="dcterms:W3CDTF">2012-03-30T15:20:43Z</dcterms:modified>
  <cp:revision>43</cp:revision>
  <dc:subject/>
  <dc:title>Process Flowcharting</dc:title>
</cp:coreProperties>
</file>